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EF8-A388-4D94-B7B3-CCC61E9E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6D3-549D-4020-B36A-A75A68B7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800-452C-4BD4-8701-C7127426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CC3-9FAA-4FC0-8BBE-07D7A809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3910-B453-4A3A-86B7-8F9A2DAE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E2E2-2B99-49BC-A8DB-3C6F468B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D8A4-78B9-47D6-929F-A785A031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B1F9-3D9B-4D14-B373-1FC08EA9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D9C3-6941-4441-9207-934151C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7471-5954-49D3-BE78-1EB4A96E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8F69-48EE-4466-AF88-165314E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497-B29A-48B3-82C6-162CE80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FB35-A350-4762-A5C7-F4D45B75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F8A2-127E-4C21-A95A-3669549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A404-F5A5-466B-925B-D2D79FA7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74AB-3588-4627-A034-2F33ACC5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0A68-AF6A-48E7-AF20-71302911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B97-8153-4161-BBD3-678A5566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FD8-795C-49B4-B7D3-9D2584B2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322-33C1-4A11-A29D-9D1044D3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E0D-68C3-449B-967D-C81E1425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527-2AE9-470A-A052-8260688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842-727B-4863-9949-861F760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9E1-FED7-4FD5-8E46-64E83A8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7A7-0423-4E10-9EB2-6BBBE019ED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8F9C-4A67-4B0B-8FC0-FE3553FA91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二章  国际金融市场一体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financial Inte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金融市场一体化的涵义、原因及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金融市场一体化的涵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从分散走向整体的过程与状态。包括三个层次的内涵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的关联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inkages between mark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之间的交易手数和交易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umber and volume of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利率决定机制与利率趋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ate-setting mechanis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二、国际金融市场一体化的原因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的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进步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自由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构投资者投资需求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货币体系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、国际金融市场一体化的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积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加快了金融信息传递，提高了金融市场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选择性，满足了各种金融需求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的流动性，提高了资本配置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国际贸易，调节国际收支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消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削弱了各国货币政策自主性，降低了政策效力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导致金融资产价格过度波动，增大风险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加了金融市场脆弱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二节  国际金融市场一体化的内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市场关联链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地理障碍的消除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中的资金清算系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各类金融市场的一体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外汇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短期资金融通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资本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债券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股票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中长期国际融资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衍生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国际金融市场资产价格的相关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三节  国际金融市场结构变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国际金融市场的体制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体制上划分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传统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地理分布多样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市场形成并迅速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国际金融市场的运行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围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49:12Z</dcterms:created>
  <dc:creator>MS User</dc:creator>
  <dc:description/>
  <dc:language>en-US</dc:language>
  <cp:lastModifiedBy>Dell</cp:lastModifiedBy>
  <dcterms:modified xsi:type="dcterms:W3CDTF">2021-08-23T22:51:07Z</dcterms:modified>
  <cp:revision>13</cp:revision>
  <dc:subject/>
  <dc:title>第七章  国际金融市场一体化</dc:title>
</cp:coreProperties>
</file>